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0976-EBEB-47D2-BB97-5FA33B2F4A6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856-AB38-40E5-B02B-743652BC32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B818-CBB8-4F2E-A605-D098600F0D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498-A495-4B3E-87F2-53586B04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72C-DBD4-4E6F-8C95-3B470865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FF5-F4DC-4F15-B92C-5C44535C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C6F-BEF7-4B84-A22C-CF1B7D1F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8D4-5F1D-4012-8D6B-BD55035D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301-57CE-4014-B51E-D211D29E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8F8-4BF0-4100-99AA-1E0FF399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049-2C85-470A-A3D6-D0EBF381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264-5280-45CC-BA05-827155D8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86D-BF87-4FF3-A9A0-18950F48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61B-1450-47C8-A716-D546D2CA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35A-0D30-498A-B0F8-2180D714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8C07-7819-4C90-BB63-CC3964F12428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janli\Desktop\marek\power-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janli\Desktop\marek\power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dvorak\Desktop\final zdroje k powerpointu\zmensene slidy 3 a 4\power-2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dvorak\Desktop\final zdroje k powerpointu\zmensene slidy 3 a 4\power-3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31640" y="620280"/>
            <a:ext cx="57834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Útvar Zmocněnce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pro udržitelnost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výzkumných cen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4735080" y="42926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39880" y="2643120"/>
          <a:ext cx="5904000" cy="267516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</a:tblGrid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ánovaný rok ukonče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</a:tbl>
          </a:graphicData>
        </a:graphic>
      </p:graphicFrame>
      <p:sp>
        <p:nvSpPr>
          <p:cNvPr id="225" name="TextovéPole 4"/>
          <p:cNvSpPr/>
          <p:nvPr/>
        </p:nvSpPr>
        <p:spPr>
          <a:xfrm>
            <a:off x="642960" y="5786280"/>
            <a:ext cx="735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a6a6a6"/>
                </a:solidFill>
                <a:latin typeface="Arial"/>
              </a:rPr>
              <a:t>Zdroje: Technické popisy projektů, monitorovací zprávy projekt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990720" y="1600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ntra ve fázi realizace musejí naplnit  pro úspěšné ukončení projektu větší počet monitorovacích indikátor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prokázat, že došlo k věcnému naplnění účel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staveb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chna navštívená centra ve fázi udržitelnosti mají zbudované, nebo rekonstruované prostory zkolaudované a v provozu stejně jako dvě centra ve fázi realizace ( p.č. 0077 a 008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078 prochází kolaudací (listopad 2014), ale z poznatků získaných na míst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hadujeme zpoždění na Q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08 je v mírném skluzu oproti harmonogramu (instalace antivibračních stavebních opatření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16 sklad v provozu, hlavní budova bude v provozu k 03/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finanční zdroje pro udržitelnost N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2880" y="1428480"/>
            <a:ext cx="8153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m navštíveným centrům ve fázi udržitelnosti byla přidělena podpora z Národního programu udržitelnosti (NPU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iskrepance mezi aktualizovanými odhady center k srpnu 2014 a Informačním systémem výzkumu, experimentálního vývoje a inov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00040" y="2571840"/>
          <a:ext cx="8143920" cy="3357360"/>
        </p:xfrm>
        <a:graphic>
          <a:graphicData uri="http://schemas.openxmlformats.org/drawingml/2006/table">
            <a:tbl>
              <a:tblPr/>
              <a:tblGrid>
                <a:gridCol w="1357200"/>
                <a:gridCol w="1819440"/>
                <a:gridCol w="611280"/>
                <a:gridCol w="645840"/>
                <a:gridCol w="648000"/>
                <a:gridCol w="647640"/>
                <a:gridCol w="647640"/>
                <a:gridCol w="646200"/>
                <a:gridCol w="647640"/>
                <a:gridCol w="473040"/>
              </a:tblGrid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3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8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5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3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2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 0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 5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4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5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8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4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 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8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4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5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provoz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600200"/>
            <a:ext cx="7696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 koncem letošního roku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ět center završí první rok fáze udržitelnosti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tedy na základě reálných provozních výdajů a příjmů bude možn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pětná korekce odhadů i zpřesnění výhled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em nutnosti takových zpětných korekcí může být centrum, které v posledním roce své realizace (2013) mělo vytvořen dostatečný počet nových pracovních míst (dle všech závazných indikátorů), a přesto odhad mzdových prostředků v roce 2014 roste o 72 % a pokračuje v růstu v dalších letech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 centrem očekávané ostatní zdroje financování (tj. zdroje mimo účelovou a institucionální podporu, mezinárodní granty a smluvní výzkum) jsou odhadovány na 110 mil. Kč ke konci roku 20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tj. 55 % celkového rozpočtu centra) a 50 mil. v roce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kupina pracuje na rozkladu provozních výdajů a zdrojů financování, který bude dále zpřesňovat na základě dat získaných při návštěvách center a dat ze schválených monitorovacích zpráv za rok 2013, 2014 a dalších podkladů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Harmonogram monitoringu výzkumn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1844640"/>
          <a:ext cx="8075880" cy="348768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S - Nové technologie pro informační společn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nov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ita Tomáše Bati ve Zl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bezpečnostních, informačních a pokročilý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ME Centre (Nové technologie pro strojírenství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senzorických, informačních a komunikačních systémů (SI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přístrojové techn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kační a vývojové laboratoře pokročilých mikrotechnologií a nano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systémové biologie a ekologie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Globe - Centrum pro studium dopadů globální změny klima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teoretické a aplikované mechaniky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excelence Tel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71280" y="1125000"/>
            <a:ext cx="4753080" cy="15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br>
              <a:rPr sz="3300"/>
            </a:b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Osnova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1564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lň činnosti Útvar Zmocněnce pro udržitelnost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uální stav v monitoringu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rmonogram návštěv do konce roku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Charakteristika výchozího stavu - udrž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1628280"/>
            <a:ext cx="705816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NAŘÍZENÍ RADY (ES) č. 1083/2006 ze dne 11. července 2006 o obecných ustanoveních o Evropském fondu pro regionální rozvoj, Evropském sociálním fondu a Fondu soudržnosti a o zrušení nařízení (ES) č. 1260/1999 vymezuje udržitelnost jako „stálost operací“, investice musí být po dobu 5 let od ukončení realizace zachována ke stanovenému účelu, nesmí dojít ke změně činnosti nebo k provádění aktivit, které by zakládaly nepovolenou veřejnou podporu. Rovněž nesmí dojít ke změně formy vlastnictví infrastruktury pořízené z dot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eská republ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rostřednictvím Rady pro výzkum, vývoj a inovace („RVVI“),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avázal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 zajištění udržitelnosti podpořených VaV center po dobu 5ti let po ukončení podpory z OP VaV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náplň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ávštěvách na místě zjišťujeme a zpřesňujeme především in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věřujíc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aplnění účelu projektu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 v období udržitelnos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lnění indikátorů udržitel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yly stanoveny při schvalování projektu 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 případě center ve fázi udržitelnosti informace o jeji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álných provozních výdajíc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v případě center ve fázi realizace informace zpřesňující predikce provozních výdajů a příjmů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konstituování a dosavadním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fungování výzkumných tým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udou pracovat v nově otevíraných či dostavovaných výzkumných centre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termín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stavb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 zprovoznění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možný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mplikacích a nových problémech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činnosti cen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složení ú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14284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mocněnec pro udržitelnost výzkumných cent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eva.kislingerova@msmt.cz, tel.: 234 813 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lenové monitoringu útvaru Zmocněnce pro udržitelnost výzkumných c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Karel Pavel - generální ředitel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karel.pavel@msmt.cz, tel.: 602 374 6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NDr. Jan Mikeska, CSc. - vedoucí oddělení výzkumu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jan.mikeska@msmt.cz, tel.: 777 651 6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Petr Kubant - odborník z oblasti stavebnictv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petr.kubant@msmt.cz, tel.:602 746 4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Markéta Hlavinková - garant kontrol OP VaV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marketa.hlavinkova@msmt.cz, tel.: 773 001 7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c. Dana Léwová – analytik, asis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dana.lew@msmt.cz, tel.: 604 646 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dres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U lužického semináře 90/13, Malá Strana, 118 00 Praha 1, kancelář č.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1844640"/>
          <a:ext cx="8075880" cy="371016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9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stav molekulární genet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technologické a biomedicínské centrum Akademie věd a Univerzity Karlo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ÚTS,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ozvoje strojírenského výzkumu Liber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ká Univerzita v Liber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nanomateriály, pokročilé technologie a inov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výzkumu Řež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držitelná Energe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sychiatrické centrum Pra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rodní ústav duševního zdraví (NUDZ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a šlechtitelský ústav ovocnářský Holovousy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ocnářský výzkumný instit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ústav veterinárního lékařství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aplikovanou mikrobiologii a imunologii ve veterinární medic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medicína pro regionální rozvoj a lidské zdroje (BIOMEDRE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egionu Haná pro biotechnologický a zemědělský výzk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1844640"/>
          <a:ext cx="8075880" cy="37195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ální centrum pokročil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ain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ánové inovační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á univerzita v Českých Budějovic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é výzkumné centrum akvakultury a biodiverzity hydrocenóz (CENAKV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ské vysoké učení technické v Pra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řízení technologie pro Centrum vozidel udržitelné mobility (CVU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TES FHT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padočeské materiálově metalurgické centrum (ZMM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arykova univerzita, B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TOCO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MaS - Pokročilé stavební materiály, konstrukce a tech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krobiologický ústav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řasových biotechnologií Třeboň (Algate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excelence IT4Innov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1844640"/>
          <a:ext cx="8075880" cy="32497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82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ET - Energetické jednotky pro využití netradiční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ální materiálově technologické výzkumné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čistých technologií těžby a užití energetických surov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environmentální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vace pro efektivitu a životní prostřed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 materiálového výzkumu na FCH VUT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výzkumu a využití obnovitelný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600200"/>
            <a:ext cx="76960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všech navštíven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enter ve fázi udržitelnosti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o při závěrečném hodnocení shledá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e naplnila věcný účel projektu i přesto, že nebyly naplněny všechny závazné indiká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 hlediska plnění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ávazných indikátor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o dobu 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společným problémem objem smluvního výzkumu, který se nepodařilo žádnému, vyjma jediného, z center napl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40" y="3486240"/>
          <a:ext cx="8064360" cy="245412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  <a:gridCol w="720720"/>
                <a:gridCol w="718920"/>
                <a:gridCol w="720720"/>
              </a:tblGrid>
              <a:tr h="35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18:25Z</dcterms:created>
  <dc:creator>Dana Léwová</dc:creator>
  <dc:description>Předkládá prof. Kislingerová, připravila Dana Léwová</dc:description>
  <dc:language>en-US</dc:language>
  <cp:lastModifiedBy>Dana</cp:lastModifiedBy>
  <cp:lastPrinted>2014-10-23T13:48:19Z</cp:lastPrinted>
  <dcterms:modified xsi:type="dcterms:W3CDTF">2014-11-27T14:27:55Z</dcterms:modified>
  <cp:revision>617</cp:revision>
  <dc:subject/>
  <dc:title>Seminář pro žadatele  OP VaVpI v rámci PO 4</dc:title>
</cp:coreProperties>
</file>